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0BC-BDD4-427E-B90E-C3AD304AFBDE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9B52-180D-4DF4-B0B3-AA8FA797C7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09B-3592-47D7-B36D-4338F0D9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A81-EAC8-4508-913C-4E939B46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403-4548-4B2D-8BB0-66C25EAC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3E1-094C-41F5-B7DC-E571305B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23D6-CD64-47AC-90B6-D97350DA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8769-4550-440B-AD8B-2410E06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B9A6-3DB3-443C-ACE6-9A68668A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41B4-A89A-47E3-88D9-A98F654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5F03-2754-4249-A1BC-77BCB5D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389-35CA-4949-96C8-6202D0DE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C07A-9DA0-44CC-8836-A15F15A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8AE-A5A7-4397-AEED-8A927F5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B6DF-8FBA-4DDD-81ED-EBA33F1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FCD2-3AA3-476D-8A15-844810F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66F-39EB-4806-BA7E-04D105B5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40E4-BA8C-426D-8A7C-D336B444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4B76-2EE0-4417-A4CB-5ACB0B8A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D04B-7979-4302-A4B1-F69FFECA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C7FE-6E3A-43AA-86E7-32B6B095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7831-C015-4CA9-B653-338ACB8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4A08-4586-498E-BCC7-B597D18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12B2-64F1-486E-A30A-A2F4E09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7BB-A87E-4DA3-92D6-2866B222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BF6B-F83E-4E97-BDD8-97385151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AE47-E3A2-4DE1-86C4-5C4D9B0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CD86-C855-459F-9BF2-F0701F5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EF49-F539-42DA-8915-2E082B69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AACD-7620-4427-8DE6-4E8BECD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EEFE-E446-4733-B572-5DDE3C7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EABF-F60B-4F18-AD72-67AB395A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0716-76D2-4C78-9B01-3ED46155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4F59-4657-49AB-A8F6-86B24C8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05E9-8109-4458-B578-2CDF7B41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0D1-02FE-48DE-8D7C-0B436B33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3F07-9EC3-4896-8394-D62F812D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FA3C-A368-4825-A6FC-ED59CF15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475B-ED8C-49FD-819D-7C2BB50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40DB-646C-4932-8858-2218969C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B69E-E3C7-44C0-AB1E-10F323B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E1C0-EB4F-42AB-ACB6-5B3B30D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B84B-1FE7-4F58-8BBB-64027492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9C24-4260-4A41-9772-9DE4DD71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8B8F1-52E3-4507-9ECF-677CF3CB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3B394-D869-4AA7-813B-2E2D9E52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CE7-AC20-4747-B0E9-B8ED1FE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99EF-FC3B-4680-988F-A2FF1F97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DA12-85CC-4DF7-94A8-84B42B2F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A2D5-6EA2-404A-A933-DA165393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9172-8A5E-43CB-90BF-A6B170E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EFD7-91D1-4DCE-B71B-95D25EC8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1DD3F-5FA4-4495-96C3-4359865C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98F3-DFB6-493D-B59F-2D0BA7C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212A-110E-4346-A836-39D7D79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3F51-2407-45D5-8689-CC0D7618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5610-6F07-43EF-9C10-9C64272E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29B-7509-4B4B-8B8D-32EBD00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66385-39BA-46AA-BFAA-B2E1D665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1435-43F2-4490-8E4A-9F04861D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6A5F-889D-4A49-9D1B-DC7C1337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6483-0CBF-4A41-AAED-9876E26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8220-CB0B-4D29-B4EC-F179612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BF83-F766-46CB-B875-D16B4D99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6AC6E-8E2A-428E-AE3D-65F7A76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4433-A95E-42E1-93E3-CCBB597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C45A-24DD-49B4-BB1F-8921E41F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27BC-1F71-4482-9545-093953F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5AC-2A2C-4FC7-8B53-6739692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280E7-E5B7-4EC9-A95D-DC1DC46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2D894-4254-4D53-96A4-BF3BCE1B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F814-D89A-405A-A197-DB7B0CB9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0CE-6650-4DCB-ABE7-4FD9AFF8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B18-817F-43B6-AA0E-BC456E3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34F-507F-4542-A81A-614524A6A61A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7035-166B-4B01-BCF5-9087C44280C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5E2-D0A4-4D36-9B2E-3B84AAFA7037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826-80C8-45D6-96D8-4ED9E3500348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1BF-60DD-4832-928F-D2701E1F709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4E19-97B9-42E9-8278-52EFE25BE4E5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3" descr=""/>
          <p:cNvPicPr/>
          <p:nvPr/>
        </p:nvPicPr>
        <p:blipFill>
          <a:blip r:embed="rId1"/>
          <a:stretch/>
        </p:blipFill>
        <p:spPr>
          <a:xfrm>
            <a:off x="506520" y="426960"/>
            <a:ext cx="81248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13720" cy="1116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28600" y="1143000"/>
            <a:ext cx="861048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α) Εξοικείωσης και προβληματισμού: Πρόκληση ενδιαφέροντος, για δραστηριοποίηση και συμμετοχή των μαθητών /τριών στη διδακτική διαδικασί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  Γιατί βουλιάζει μια μικρή σιδερένια μπίλια και όχι ένα πλοίο πολλών τόνων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 Γιατί δεν σβήνουν όλα τα φώτα σπίτι μας όταν καεί μια λάμπα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28320" y="647640"/>
            <a:ext cx="8458200" cy="563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β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ισαγωγή της νέας γνώσης: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Εισαγωγή εννοιών, αρχών, φαινομένων με ορισμούς, τύπους παραδείγματα με στόχο την κατανόηση του επιστημονικού περιεχομέν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ξηγούμε το φαινόμενο του βρασμού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ατάταξη των σωμάτων στις τρεις ΦΚΥ: Στερεά, Υγρά, Αέρι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ισαγωγή πίεσης με Ρ =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F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S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, Τύπος, Π.χ. τακούνι στιλέτο / αντικείμενα στην άμμ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04920" y="285480"/>
            <a:ext cx="8534160" cy="614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φαρμογή της γνώσης: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φαρμογή της νέας γνώσης σε γνωστά φυσικά φαινόμενα και εφαρμογές της καθημερινής ζωής. Π.χ. ερμηνεία φαινομένων και τεχνολογικών εφαρμογών, λύση προβλημάτων ……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όταν βράσει (κοχλάσει) το νερό το κατεβάζουμε από τη φωτιά;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στον παγωμένο δρόμο φοράμε παπούτσια με «ανώμαλη» σόλα (τρακτερωτά)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ρμηνεύστε τη λειτουργία του ηλεκτρικού (ή ηλιακού) θερμοσίφωνα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560" y="713880"/>
            <a:ext cx="8481960" cy="551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δ) </a:t>
            </a:r>
            <a:r>
              <a:rPr b="1" lang="el-GR" sz="32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Αξιολόγηση της νέας γνώσης: </a:t>
            </a: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Με ερωτήσεις, προβλήματα, ανάκληση γνώσεων …… ελέγχουμε αν κατανοήθηκε – αφομοιώθηκε η νέα γνώση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Ταξινομείστε τα παρακάτω σώματα σε Στερεά / Υγρά / Αέρι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Ποια λάμπα φωτοβολεί περισσότερο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85840" y="231840"/>
            <a:ext cx="8572320" cy="1347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560" y="1518840"/>
            <a:ext cx="8553240" cy="51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πιβεβαίωση σωστών απαντήσε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Πολύ ωραία … προχωρούμε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αποδοκιμασία του λάθου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κάποιος /α άλλος 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Όχι … βέβαια …. Άλλος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άτι μας λες … κι άλλος …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3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99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352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Ανακαλυπτική μέθοδος ενεργοποιεί τα παιδιά, βοηθά στην ανάπτυξη νοητικών δεξιοτήτων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και απαιτεί μικρή προετοιμασία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νώση «ανακαλύπτεται» από τα παιδιά με κατάλληλες ερωτήσεις του δάσκαλου /α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ρατηγική: Η δημιουργία και ο έλεγχος των υποθέσεων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79280" y="189000"/>
            <a:ext cx="878544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Γνωστική –  Επεξεργασία Πληροφορίας στη γνωστική δομή των μαθητ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όμως αλλάζουν εύκολα με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ξοικείωσης και Προβληματισμού, Δημιουργίας και Ελέγχου Υποθέσεων, Εφαρμογής και Αξιολόγησης της νέας 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 Διερευνητικής κατανό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επίδειξη - α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ή και Ομαδοσυνεργατικ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ομαδική εργασία - α.ο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04920"/>
            <a:ext cx="8645400" cy="1352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1609560"/>
            <a:ext cx="861048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Επίδειξη (αε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Ομαδική Εργασία (αοε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1171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294920"/>
            <a:ext cx="8715600" cy="53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Ιδιότητες και ταξινομήσεις σωμάτ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εις μεγεθών και φαινομένω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φαρμογές σχέσεων και αρχ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μπειρικοί νόμο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οιχεία μεθοδολογ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ύσκολα 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Έννοιε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μηνευτικά μοντέλ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Μικρόκοσμ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656560" cy="166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85840" y="2214360"/>
            <a:ext cx="8572320" cy="38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ές Αντίδραση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οινωνικό Σύστημα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Υποστήριξ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127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4920" y="1609560"/>
            <a:ext cx="853416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γασία σε ομάδες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ύλλο εργασίας – Ερωτήσει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εριεχόμενο: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κε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νδιαφέρον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υνοεί Ψυχοκινητικούς  στόχου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μηλό γνωστικό φορτ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ιοι στόχοι υλοποιούνται στην Α.Ο.Ε.;  - Όλο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λεονεκτήματα και Περιορισμοί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-122400" y="-158760"/>
            <a:ext cx="9528480" cy="17924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0" y="1214280"/>
            <a:ext cx="9143640" cy="5645880"/>
            <a:chOff x="0" y="1214280"/>
            <a:chExt cx="9143640" cy="5645880"/>
          </a:xfrm>
        </p:grpSpPr>
        <p:grpSp>
          <p:nvGrpSpPr>
            <p:cNvPr id="355" name="Group 4"/>
            <p:cNvGrpSpPr/>
            <p:nvPr/>
          </p:nvGrpSpPr>
          <p:grpSpPr>
            <a:xfrm>
              <a:off x="0" y="1217880"/>
              <a:ext cx="9142920" cy="5642280"/>
              <a:chOff x="0" y="1217880"/>
              <a:chExt cx="9142920" cy="564228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0" y="1217880"/>
                <a:ext cx="4645440" cy="931320"/>
                <a:chOff x="0" y="1217880"/>
                <a:chExt cx="4645440" cy="93132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0" y="1217880"/>
                  <a:ext cx="46454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ΕΠΙΔΕΙΞΗ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5040" y="1217880"/>
                  <a:ext cx="45154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"/>
              <p:cNvGrpSpPr/>
              <p:nvPr/>
            </p:nvGrpSpPr>
            <p:grpSpPr>
              <a:xfrm>
                <a:off x="4520880" y="1217880"/>
                <a:ext cx="4622040" cy="931320"/>
                <a:chOff x="4520880" y="1217880"/>
                <a:chExt cx="4622040" cy="931320"/>
              </a:xfrm>
            </p:grpSpPr>
            <p:sp>
              <p:nvSpPr>
                <p:cNvPr id="360" name="Rectangle 9"/>
                <p:cNvSpPr/>
                <p:nvPr/>
              </p:nvSpPr>
              <p:spPr>
                <a:xfrm>
                  <a:off x="4598280" y="121788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ΟΜΑΔΙΚΗ ΕΡΓΑΣΙΑ (Α.Ο.Ε.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10"/>
                <p:cNvSpPr/>
                <p:nvPr/>
              </p:nvSpPr>
              <p:spPr>
                <a:xfrm>
                  <a:off x="4520880" y="12178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1"/>
              <p:cNvGrpSpPr/>
              <p:nvPr/>
            </p:nvGrpSpPr>
            <p:grpSpPr>
              <a:xfrm>
                <a:off x="0" y="2149200"/>
                <a:ext cx="4561920" cy="710280"/>
                <a:chOff x="0" y="2149200"/>
                <a:chExt cx="4561920" cy="710280"/>
              </a:xfrm>
            </p:grpSpPr>
            <p:sp>
              <p:nvSpPr>
                <p:cNvPr id="363" name="Rectangle 12"/>
                <p:cNvSpPr/>
                <p:nvPr/>
              </p:nvSpPr>
              <p:spPr>
                <a:xfrm>
                  <a:off x="0" y="214920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ασκαλοκεντρική - μετωπική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13"/>
                <p:cNvSpPr/>
                <p:nvPr/>
              </p:nvSpPr>
              <p:spPr>
                <a:xfrm>
                  <a:off x="5040" y="214920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4526280" y="2142720"/>
                <a:ext cx="4616640" cy="716400"/>
                <a:chOff x="4526280" y="2142720"/>
                <a:chExt cx="4616640" cy="716400"/>
              </a:xfrm>
            </p:grpSpPr>
            <p:sp>
              <p:nvSpPr>
                <p:cNvPr id="366" name="Rectangle 15"/>
                <p:cNvSpPr/>
                <p:nvPr/>
              </p:nvSpPr>
              <p:spPr>
                <a:xfrm>
                  <a:off x="4571280" y="21488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μαθητοκεντρική -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6"/>
                <p:cNvSpPr/>
                <p:nvPr/>
              </p:nvSpPr>
              <p:spPr>
                <a:xfrm>
                  <a:off x="4526280" y="2142720"/>
                  <a:ext cx="461664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"/>
              <p:cNvGrpSpPr/>
              <p:nvPr/>
            </p:nvGrpSpPr>
            <p:grpSpPr>
              <a:xfrm>
                <a:off x="0" y="2859480"/>
                <a:ext cx="4645440" cy="711720"/>
                <a:chOff x="0" y="2859480"/>
                <a:chExt cx="4645440" cy="711720"/>
              </a:xfrm>
            </p:grpSpPr>
            <p:sp>
              <p:nvSpPr>
                <p:cNvPr id="369" name="Rectangle 18"/>
                <p:cNvSpPr/>
                <p:nvPr/>
              </p:nvSpPr>
              <p:spPr>
                <a:xfrm>
                  <a:off x="0" y="2859480"/>
                  <a:ext cx="4645440" cy="711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κυρίαρχο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19"/>
                <p:cNvSpPr/>
                <p:nvPr/>
              </p:nvSpPr>
              <p:spPr>
                <a:xfrm>
                  <a:off x="5040" y="2859480"/>
                  <a:ext cx="4515480" cy="7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20"/>
              <p:cNvGrpSpPr/>
              <p:nvPr/>
            </p:nvGrpSpPr>
            <p:grpSpPr>
              <a:xfrm>
                <a:off x="4520880" y="2859480"/>
                <a:ext cx="4622040" cy="710280"/>
                <a:chOff x="4520880" y="2859480"/>
                <a:chExt cx="4622040" cy="710280"/>
              </a:xfrm>
            </p:grpSpPr>
            <p:sp>
              <p:nvSpPr>
                <p:cNvPr id="372" name="Rectangle 21"/>
                <p:cNvSpPr/>
                <p:nvPr/>
              </p:nvSpPr>
              <p:spPr>
                <a:xfrm>
                  <a:off x="4598280" y="2859480"/>
                  <a:ext cx="4544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διευκολυντή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2"/>
                <p:cNvSpPr/>
                <p:nvPr/>
              </p:nvSpPr>
              <p:spPr>
                <a:xfrm>
                  <a:off x="4520880" y="285948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23"/>
              <p:cNvGrpSpPr/>
              <p:nvPr/>
            </p:nvGrpSpPr>
            <p:grpSpPr>
              <a:xfrm>
                <a:off x="0" y="3522960"/>
                <a:ext cx="4570920" cy="757440"/>
                <a:chOff x="0" y="3522960"/>
                <a:chExt cx="4570920" cy="757440"/>
              </a:xfrm>
            </p:grpSpPr>
            <p:sp>
              <p:nvSpPr>
                <p:cNvPr id="375" name="Rectangle 24"/>
                <p:cNvSpPr/>
                <p:nvPr/>
              </p:nvSpPr>
              <p:spPr>
                <a:xfrm>
                  <a:off x="0" y="3522960"/>
                  <a:ext cx="4570920" cy="709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πολλοί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40" y="3573360"/>
                  <a:ext cx="4515120" cy="70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6"/>
              <p:cNvGrpSpPr/>
              <p:nvPr/>
            </p:nvGrpSpPr>
            <p:grpSpPr>
              <a:xfrm>
                <a:off x="4520880" y="3570120"/>
                <a:ext cx="4622040" cy="710640"/>
                <a:chOff x="4520880" y="3570120"/>
                <a:chExt cx="4622040" cy="710640"/>
              </a:xfrm>
            </p:grpSpPr>
            <p:sp>
              <p:nvSpPr>
                <p:cNvPr id="378" name="Rectangle 27"/>
                <p:cNvSpPr/>
                <p:nvPr/>
              </p:nvSpPr>
              <p:spPr>
                <a:xfrm>
                  <a:off x="4571280" y="3570120"/>
                  <a:ext cx="4571640" cy="710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όλοι οι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28"/>
                <p:cNvSpPr/>
                <p:nvPr/>
              </p:nvSpPr>
              <p:spPr>
                <a:xfrm>
                  <a:off x="4520880" y="3570120"/>
                  <a:ext cx="462204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9"/>
              <p:cNvGrpSpPr/>
              <p:nvPr/>
            </p:nvGrpSpPr>
            <p:grpSpPr>
              <a:xfrm>
                <a:off x="0" y="4178880"/>
                <a:ext cx="4643640" cy="1033200"/>
                <a:chOff x="0" y="4178880"/>
                <a:chExt cx="4643640" cy="1033200"/>
              </a:xfrm>
            </p:grpSpPr>
            <p:sp>
              <p:nvSpPr>
                <p:cNvPr id="381" name="Rectangle 30"/>
                <p:cNvSpPr/>
                <p:nvPr/>
              </p:nvSpPr>
              <p:spPr>
                <a:xfrm>
                  <a:off x="0" y="4178880"/>
                  <a:ext cx="4643640" cy="1033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εκπαιδευτικό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31"/>
                <p:cNvSpPr/>
                <p:nvPr/>
              </p:nvSpPr>
              <p:spPr>
                <a:xfrm>
                  <a:off x="5040" y="4280760"/>
                  <a:ext cx="451548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4520880" y="4281120"/>
                <a:ext cx="4622040" cy="931320"/>
                <a:chOff x="4520880" y="4281120"/>
                <a:chExt cx="4622040" cy="93132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4598280" y="428112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4"/>
                <p:cNvSpPr/>
                <p:nvPr/>
              </p:nvSpPr>
              <p:spPr>
                <a:xfrm>
                  <a:off x="4520880" y="428112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5"/>
              <p:cNvGrpSpPr/>
              <p:nvPr/>
            </p:nvGrpSpPr>
            <p:grpSpPr>
              <a:xfrm>
                <a:off x="0" y="5212440"/>
                <a:ext cx="4561920" cy="710280"/>
                <a:chOff x="0" y="5212440"/>
                <a:chExt cx="4561920" cy="710280"/>
              </a:xfrm>
            </p:grpSpPr>
            <p:sp>
              <p:nvSpPr>
                <p:cNvPr id="387" name="Rectangle 36"/>
                <p:cNvSpPr/>
                <p:nvPr/>
              </p:nvSpPr>
              <p:spPr>
                <a:xfrm>
                  <a:off x="0" y="521244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αραδοσιακή διαχείριση τάξη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7"/>
                <p:cNvSpPr/>
                <p:nvPr/>
              </p:nvSpPr>
              <p:spPr>
                <a:xfrm>
                  <a:off x="5040" y="521244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8"/>
              <p:cNvGrpSpPr/>
              <p:nvPr/>
            </p:nvGrpSpPr>
            <p:grpSpPr>
              <a:xfrm>
                <a:off x="4520880" y="5212440"/>
                <a:ext cx="4622040" cy="710280"/>
                <a:chOff x="4520880" y="5212440"/>
                <a:chExt cx="4622040" cy="710280"/>
              </a:xfrm>
            </p:grpSpPr>
            <p:sp>
              <p:nvSpPr>
                <p:cNvPr id="390" name="Rectangle 39"/>
                <p:cNvSpPr/>
                <p:nvPr/>
              </p:nvSpPr>
              <p:spPr>
                <a:xfrm>
                  <a:off x="4571280" y="52124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τάξη σε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0"/>
                <p:cNvSpPr/>
                <p:nvPr/>
              </p:nvSpPr>
              <p:spPr>
                <a:xfrm>
                  <a:off x="4520880" y="521244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41"/>
              <p:cNvGrpSpPr/>
              <p:nvPr/>
            </p:nvGrpSpPr>
            <p:grpSpPr>
              <a:xfrm>
                <a:off x="0" y="5923080"/>
                <a:ext cx="4570920" cy="937080"/>
                <a:chOff x="0" y="5923080"/>
                <a:chExt cx="4570920" cy="937080"/>
              </a:xfrm>
            </p:grpSpPr>
            <p:sp>
              <p:nvSpPr>
                <p:cNvPr id="393" name="Rectangle 42"/>
                <p:cNvSpPr/>
                <p:nvPr/>
              </p:nvSpPr>
              <p:spPr>
                <a:xfrm>
                  <a:off x="0" y="5929200"/>
                  <a:ext cx="4570920" cy="93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γνωστικοί στόχοι (νοητικές δεξιότητες και ειδικοί γνωστικοί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43"/>
                <p:cNvSpPr/>
                <p:nvPr/>
              </p:nvSpPr>
              <p:spPr>
                <a:xfrm>
                  <a:off x="5040" y="5923080"/>
                  <a:ext cx="451512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4"/>
              <p:cNvGrpSpPr/>
              <p:nvPr/>
            </p:nvGrpSpPr>
            <p:grpSpPr>
              <a:xfrm>
                <a:off x="4520880" y="5923080"/>
                <a:ext cx="4622040" cy="931320"/>
                <a:chOff x="4520880" y="5923080"/>
                <a:chExt cx="4622040" cy="931320"/>
              </a:xfrm>
            </p:grpSpPr>
            <p:sp>
              <p:nvSpPr>
                <p:cNvPr id="396" name="Rectangle 45"/>
                <p:cNvSpPr/>
                <p:nvPr/>
              </p:nvSpPr>
              <p:spPr>
                <a:xfrm>
                  <a:off x="4571280" y="5923080"/>
                  <a:ext cx="4571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ψυχοκινητικοί,  συναισθηματικοί και γνωστικοί στόχοι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6"/>
                <p:cNvSpPr/>
                <p:nvPr/>
              </p:nvSpPr>
              <p:spPr>
                <a:xfrm>
                  <a:off x="4520880" y="59230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" name="Rectangle 47"/>
            <p:cNvSpPr/>
            <p:nvPr/>
          </p:nvSpPr>
          <p:spPr>
            <a:xfrm>
              <a:off x="0" y="1214280"/>
              <a:ext cx="9143640" cy="564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7232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1428840"/>
            <a:ext cx="8569080" cy="516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διερευνητική προσέγγιση φαίνεται να ενσωματώνει πολλά στοιχεία των προηγούμενων ρευμάτω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όχος είναι η πολύπλευρη μύηση του μαθητή στο περιεχόμενο, τις διαδικασίες και τη φύση της επιστήμης, παρά η μάθηση κάποιων γεγονότων, εννοιών, νόμων κλ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5280" y="476280"/>
            <a:ext cx="8424720" cy="59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πρόβλεψης και ελέγχουν μεταβλητών που επηρεάζουν ένα φαινόμενο. «Ποιοι παράγοντες επηρεάζουν την πλεύση – βύθιση?»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γνώση και η εφαρμογή μοντέλων. Π.χ. η εισαγωγή της πυκνότητας στο Δημοτικό μέσω του μοντέλου συνωστισμένου πλήθους (δες επόμενη διαφάνεια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ελέτη πηγών – αναζήτηση πληροφοριών και η συγγραφή σχετικής έκθεση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igsaw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and experts group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572320" cy="124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977400"/>
            <a:ext cx="8610480" cy="57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μαθητές έρχονται στην τάξη με γνώσεις και εμπειρίες από το καθημερινό περιβάλλο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γνώσεις αυτές δημιουργούν αναπαραστάσεις για τις έννοιες και τα φαινόμενα των Φυσικών Επιστημών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αναπαραστάσεις αυτές επηρεάζουν ισχυρά τη διδασκαλία και καθοδηγούν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ρα, σχεδιάζουμε διδασκαλίες λαμβάνοντας υπόψη τις αρχικές ιδέες των μαθητών (ι.μ.) μα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142920"/>
            <a:ext cx="853416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ποικοδομητική (Γνωστική) –  Ο μαθητής «κατασκευάζει» τη γνώση του στη βάση των αρχικών ιδεών / εμπειριών το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που επηρεάζουν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 – Γνώστης Αρχικών ι.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νάδειξης των ι.μ., Δοκιμασίας των ι.μ., Εισαγωγής και Εφαρμογής της νέας γνώσης, Μετα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Μεταγνωστικ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ή και Ομαδοσυνεργατικό – για τη δοκιμασία των ι.μ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7184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13840" y="1428480"/>
            <a:ext cx="86439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Προυπόθεση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Ύπαρξη διαισθητικών εναλλακτικών ιδεών και επίδρασή τους στη διδασκαλία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Μαθητής: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νήμερος απόψεών του, καθώς και των συμμαθητών του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Κατασκευάζει τη γνώση,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«ανωτερότητα» της νέας γνώ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πορεία μάθη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Εκπαιδευτικός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ιχνεύει / βρίσκει τις ι.μ. και τις μοντελοποιεί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Διευκολύνει τη μάθηση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ισάγει τη νέα γνώση, ως ευλογοφανή και παραγωγικότερη αρχικής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πιδεικνύει διδακτικό υλικό ή οδηγεί τους Μ. να το κάνουν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εριεχόμενο διδασκαλίας: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πιλέγεται και μετασχηματίζεται διδακτικά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τρατηγικές στο εποικοδομητικό μοντέλο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νωστικής σύγκρουσ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νίσχυσης των ιδεώ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ναλογίες και Μεταφορέ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εφύρωσ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18480" cy="135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600" y="1595520"/>
            <a:ext cx="8686800" cy="4905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Η σύνταξη περιγράφει το μοντέλο σαν μια ροή δράσεων. Εάν ο/η  εκπαιδευτικός χρησιμοποιούσε το μοντέλο, πως θ’ άρχιζε; Τι θα έκανε πρώτο, δεύτερο, τρίτο;  Η σύνταξη περιγράφεται με μια σειρά γεγονότων, που αποκαλούνται φάσεις. Κάθε μοντέλο έχει μια διακριτή ροή φάσεων…Μία σύγκριση των συντακτικών δομών των μοντέλων αναδεικνύει τις πρακτικές διαφορές που υπάρχουν μεταξύ τους»,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yc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σελ. 5, 1978)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8645400" cy="2212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600" y="1981080"/>
            <a:ext cx="870120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Φάσεις: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νάδειξης των ιδεών μαθητώ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2, 3)Δοκιμασίας των ιδεών και καταγραφής των αποτελεσμάτων τη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4) Εισαγω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5) Εφαρμο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6) Μεταγνωστική φάσ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4 - TextBox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3786120" cy="3030480"/>
          </a:xfrm>
          <a:prstGeom prst="rect">
            <a:avLst/>
          </a:prstGeom>
          <a:ln w="0">
            <a:noFill/>
          </a:ln>
        </p:spPr>
      </p:pic>
      <p:sp>
        <p:nvSpPr>
          <p:cNvPr id="413" name="5 - TextBox"/>
          <p:cNvSpPr/>
          <p:nvPr/>
        </p:nvSpPr>
        <p:spPr>
          <a:xfrm>
            <a:off x="285840" y="3103560"/>
            <a:ext cx="3643200" cy="325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όμνημα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Φάση ανάδειξης των ιδεών των μαθητώ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,3. Φάση δοκιμασία των ιδεών και καταγραφής των αποτελεσμάτων τη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.    Φάση εισαγω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.    Φάση εφαρμο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.    Φάση ανασκόπησης σύγκρισης  μεταξύ των ιδεών των μαθητών και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6 - TextBox" descr=""/>
          <p:cNvPicPr/>
          <p:nvPr/>
        </p:nvPicPr>
        <p:blipFill>
          <a:blip r:embed="rId2"/>
          <a:stretch/>
        </p:blipFill>
        <p:spPr>
          <a:xfrm>
            <a:off x="3998880" y="426960"/>
            <a:ext cx="841320" cy="2140200"/>
          </a:xfrm>
          <a:prstGeom prst="rect">
            <a:avLst/>
          </a:prstGeom>
          <a:ln w="0">
            <a:noFill/>
          </a:ln>
        </p:spPr>
      </p:pic>
      <p:pic>
        <p:nvPicPr>
          <p:cNvPr id="415" name="7 - TextBox" descr=""/>
          <p:cNvPicPr/>
          <p:nvPr/>
        </p:nvPicPr>
        <p:blipFill>
          <a:blip r:embed="rId3"/>
          <a:stretch/>
        </p:blipFill>
        <p:spPr>
          <a:xfrm>
            <a:off x="3998880" y="2925720"/>
            <a:ext cx="841320" cy="3017880"/>
          </a:xfrm>
          <a:prstGeom prst="rect">
            <a:avLst/>
          </a:prstGeom>
          <a:ln w="0">
            <a:noFill/>
          </a:ln>
        </p:spPr>
      </p:pic>
      <p:sp>
        <p:nvSpPr>
          <p:cNvPr id="416" name="8 - TextBox"/>
          <p:cNvSpPr/>
          <p:nvPr/>
        </p:nvSpPr>
        <p:spPr>
          <a:xfrm>
            <a:off x="4857840" y="928800"/>
            <a:ext cx="164304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ΙΔΕΕΣ ΜΑΘΗΤΩΝ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Αρχικ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9 - TextBox"/>
          <p:cNvSpPr/>
          <p:nvPr/>
        </p:nvSpPr>
        <p:spPr>
          <a:xfrm>
            <a:off x="6858000" y="928800"/>
            <a:ext cx="200016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ΠΙΣΤΗΜΟΝΙΚΟ ΠΡΟΤΥΠΟ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Επιθυμητ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0 - TextBox"/>
          <p:cNvSpPr/>
          <p:nvPr/>
        </p:nvSpPr>
        <p:spPr>
          <a:xfrm>
            <a:off x="4857840" y="3643200"/>
            <a:ext cx="378612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ΡΓΑ ΚΑΤΑΛΛΗΛΑ: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ανακάλυψη των ιδεών των μαθητών</a:t>
            </a:r>
            <a:br>
              <a:rPr sz="15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οικοδόμηση της επιθυμητής γνώσης</a:t>
            </a: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12 - Ευθύγραμμο βέλος σύνδεσης"/>
          <p:cNvCxnSpPr/>
          <p:nvPr/>
        </p:nvCxnSpPr>
        <p:spPr>
          <a:xfrm flipH="1">
            <a:off x="5784480" y="214308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20 - Ευθύγραμμο βέλος σύνδεσης"/>
          <p:cNvCxnSpPr/>
          <p:nvPr/>
        </p:nvCxnSpPr>
        <p:spPr>
          <a:xfrm flipV="1">
            <a:off x="5214960" y="214272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21 - Ευθύγραμμο βέλος σύνδεσης"/>
          <p:cNvCxnSpPr/>
          <p:nvPr/>
        </p:nvCxnSpPr>
        <p:spPr>
          <a:xfrm flipH="1">
            <a:off x="8071560" y="221436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4 - Ευθύγραμμο βέλος σύνδεσης"/>
          <p:cNvCxnSpPr/>
          <p:nvPr/>
        </p:nvCxnSpPr>
        <p:spPr>
          <a:xfrm flipV="1">
            <a:off x="6071040" y="2142720"/>
            <a:ext cx="252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25 - Ευθύγραμμο βέλος σύνδεσης"/>
          <p:cNvCxnSpPr/>
          <p:nvPr/>
        </p:nvCxnSpPr>
        <p:spPr>
          <a:xfrm flipV="1">
            <a:off x="7714080" y="221400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26 - TextBox"/>
          <p:cNvSpPr/>
          <p:nvPr/>
        </p:nvSpPr>
        <p:spPr>
          <a:xfrm>
            <a:off x="484128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27 - TextBox"/>
          <p:cNvSpPr/>
          <p:nvPr/>
        </p:nvSpPr>
        <p:spPr>
          <a:xfrm>
            <a:off x="732564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28 - TextBox"/>
          <p:cNvSpPr/>
          <p:nvPr/>
        </p:nvSpPr>
        <p:spPr>
          <a:xfrm>
            <a:off x="612720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29 - TextBox"/>
          <p:cNvSpPr/>
          <p:nvPr/>
        </p:nvSpPr>
        <p:spPr>
          <a:xfrm>
            <a:off x="539676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30 - TextBox"/>
          <p:cNvSpPr/>
          <p:nvPr/>
        </p:nvSpPr>
        <p:spPr>
          <a:xfrm>
            <a:off x="811152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32 - Ευθύγραμμο βέλος σύνδεσης"/>
          <p:cNvCxnSpPr>
            <a:stCxn id="416" idx="3"/>
            <a:endCxn id="417" idx="1"/>
          </p:cNvCxnSpPr>
          <p:nvPr/>
        </p:nvCxnSpPr>
        <p:spPr>
          <a:xfrm>
            <a:off x="6500880" y="145908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30" name="35 - TextBox"/>
          <p:cNvSpPr/>
          <p:nvPr/>
        </p:nvSpPr>
        <p:spPr>
          <a:xfrm>
            <a:off x="6500880" y="928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3"/>
          <p:cNvGrpSpPr/>
          <p:nvPr/>
        </p:nvGrpSpPr>
        <p:grpSpPr>
          <a:xfrm>
            <a:off x="0" y="1752480"/>
            <a:ext cx="9143640" cy="5105160"/>
            <a:chOff x="0" y="1752480"/>
            <a:chExt cx="9143640" cy="5105160"/>
          </a:xfrm>
        </p:grpSpPr>
        <p:grpSp>
          <p:nvGrpSpPr>
            <p:cNvPr id="433" name="Group 4"/>
            <p:cNvGrpSpPr/>
            <p:nvPr/>
          </p:nvGrpSpPr>
          <p:grpSpPr>
            <a:xfrm>
              <a:off x="0" y="1757880"/>
              <a:ext cx="9142920" cy="5093640"/>
              <a:chOff x="0" y="1757880"/>
              <a:chExt cx="9142920" cy="5093640"/>
            </a:xfrm>
          </p:grpSpPr>
          <p:grpSp>
            <p:nvGrpSpPr>
              <p:cNvPr id="434" name="Group 5"/>
              <p:cNvGrpSpPr/>
              <p:nvPr/>
            </p:nvGrpSpPr>
            <p:grpSpPr>
              <a:xfrm>
                <a:off x="0" y="1757880"/>
                <a:ext cx="4356000" cy="925560"/>
                <a:chOff x="0" y="1757880"/>
                <a:chExt cx="4356000" cy="925560"/>
              </a:xfrm>
            </p:grpSpPr>
            <p:sp>
              <p:nvSpPr>
                <p:cNvPr id="435" name="Rectangle 6"/>
                <p:cNvSpPr/>
                <p:nvPr/>
              </p:nvSpPr>
              <p:spPr>
                <a:xfrm>
                  <a:off x="0" y="1757880"/>
                  <a:ext cx="435600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ΜΕΤΑΦΟΡ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3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7"/>
                <p:cNvSpPr/>
                <p:nvPr/>
              </p:nvSpPr>
              <p:spPr>
                <a:xfrm>
                  <a:off x="6480" y="1757880"/>
                  <a:ext cx="43164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8"/>
              <p:cNvGrpSpPr/>
              <p:nvPr/>
            </p:nvGrpSpPr>
            <p:grpSpPr>
              <a:xfrm>
                <a:off x="4321440" y="1757880"/>
                <a:ext cx="4821480" cy="925560"/>
                <a:chOff x="4321440" y="1757880"/>
                <a:chExt cx="4821480" cy="925560"/>
              </a:xfrm>
            </p:grpSpPr>
            <p:sp>
              <p:nvSpPr>
                <p:cNvPr id="438" name="Rectangle 9"/>
                <p:cNvSpPr/>
                <p:nvPr/>
              </p:nvSpPr>
              <p:spPr>
                <a:xfrm>
                  <a:off x="4356360" y="1757880"/>
                  <a:ext cx="478656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ΑΝΑΚΑΛΥΨ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4321440" y="1757880"/>
                  <a:ext cx="48150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0" y="2683800"/>
                <a:ext cx="4356000" cy="747720"/>
                <a:chOff x="0" y="2683800"/>
                <a:chExt cx="4356000" cy="747720"/>
              </a:xfrm>
            </p:grpSpPr>
            <p:sp>
              <p:nvSpPr>
                <p:cNvPr id="441" name="Rectangle 12"/>
                <p:cNvSpPr/>
                <p:nvPr/>
              </p:nvSpPr>
              <p:spPr>
                <a:xfrm>
                  <a:off x="0" y="268380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μεταφορέα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6480" y="268380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4"/>
              <p:cNvGrpSpPr/>
              <p:nvPr/>
            </p:nvGrpSpPr>
            <p:grpSpPr>
              <a:xfrm>
                <a:off x="4285800" y="2683800"/>
                <a:ext cx="4857120" cy="747720"/>
                <a:chOff x="4285800" y="2683800"/>
                <a:chExt cx="4857120" cy="747720"/>
              </a:xfrm>
            </p:grpSpPr>
            <p:sp>
              <p:nvSpPr>
                <p:cNvPr id="444" name="Rectangle 15"/>
                <p:cNvSpPr/>
                <p:nvPr/>
              </p:nvSpPr>
              <p:spPr>
                <a:xfrm>
                  <a:off x="4285800" y="268380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διευκολυντή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6"/>
                <p:cNvSpPr/>
                <p:nvPr/>
              </p:nvSpPr>
              <p:spPr>
                <a:xfrm>
                  <a:off x="4321080" y="268380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7"/>
              <p:cNvGrpSpPr/>
              <p:nvPr/>
            </p:nvGrpSpPr>
            <p:grpSpPr>
              <a:xfrm>
                <a:off x="0" y="3432240"/>
                <a:ext cx="4356000" cy="748080"/>
                <a:chOff x="0" y="3432240"/>
                <a:chExt cx="4356000" cy="748080"/>
              </a:xfrm>
            </p:grpSpPr>
            <p:sp>
              <p:nvSpPr>
                <p:cNvPr id="447" name="Rectangle 18"/>
                <p:cNvSpPr/>
                <p:nvPr/>
              </p:nvSpPr>
              <p:spPr>
                <a:xfrm>
                  <a:off x="0" y="3432240"/>
                  <a:ext cx="435600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Παθητικός  δέκτ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9"/>
                <p:cNvSpPr/>
                <p:nvPr/>
              </p:nvSpPr>
              <p:spPr>
                <a:xfrm>
                  <a:off x="6480" y="3432240"/>
                  <a:ext cx="43164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0"/>
              <p:cNvGrpSpPr/>
              <p:nvPr/>
            </p:nvGrpSpPr>
            <p:grpSpPr>
              <a:xfrm>
                <a:off x="4285800" y="3432240"/>
                <a:ext cx="4857120" cy="748080"/>
                <a:chOff x="4285800" y="3432240"/>
                <a:chExt cx="4857120" cy="748080"/>
              </a:xfrm>
            </p:grpSpPr>
            <p:sp>
              <p:nvSpPr>
                <p:cNvPr id="450" name="Rectangle 21"/>
                <p:cNvSpPr/>
                <p:nvPr/>
              </p:nvSpPr>
              <p:spPr>
                <a:xfrm>
                  <a:off x="4285800" y="3432240"/>
                  <a:ext cx="485712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ενεργό υποκείμενο μάθησ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22"/>
                <p:cNvSpPr/>
                <p:nvPr/>
              </p:nvSpPr>
              <p:spPr>
                <a:xfrm>
                  <a:off x="4321080" y="3432240"/>
                  <a:ext cx="48150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23"/>
              <p:cNvGrpSpPr/>
              <p:nvPr/>
            </p:nvGrpSpPr>
            <p:grpSpPr>
              <a:xfrm>
                <a:off x="0" y="4180680"/>
                <a:ext cx="4356000" cy="747720"/>
                <a:chOff x="0" y="4180680"/>
                <a:chExt cx="4356000" cy="747720"/>
              </a:xfrm>
            </p:grpSpPr>
            <p:sp>
              <p:nvSpPr>
                <p:cNvPr id="453" name="Rectangle 24"/>
                <p:cNvSpPr/>
                <p:nvPr/>
              </p:nvSpPr>
              <p:spPr>
                <a:xfrm>
                  <a:off x="0" y="418068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μεταφέρ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5"/>
                <p:cNvSpPr/>
                <p:nvPr/>
              </p:nvSpPr>
              <p:spPr>
                <a:xfrm>
                  <a:off x="6480" y="418068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6"/>
              <p:cNvGrpSpPr/>
              <p:nvPr/>
            </p:nvGrpSpPr>
            <p:grpSpPr>
              <a:xfrm>
                <a:off x="4285800" y="4180680"/>
                <a:ext cx="4857120" cy="747720"/>
                <a:chOff x="4285800" y="4180680"/>
                <a:chExt cx="4857120" cy="747720"/>
              </a:xfrm>
            </p:grpSpPr>
            <p:sp>
              <p:nvSpPr>
                <p:cNvPr id="456" name="Rectangle 27"/>
                <p:cNvSpPr/>
                <p:nvPr/>
              </p:nvSpPr>
              <p:spPr>
                <a:xfrm>
                  <a:off x="4285800" y="418068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ανακαλύπτ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28"/>
                <p:cNvSpPr/>
                <p:nvPr/>
              </p:nvSpPr>
              <p:spPr>
                <a:xfrm>
                  <a:off x="4321080" y="418068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29"/>
              <p:cNvGrpSpPr/>
              <p:nvPr/>
            </p:nvGrpSpPr>
            <p:grpSpPr>
              <a:xfrm>
                <a:off x="0" y="4928760"/>
                <a:ext cx="4356000" cy="961200"/>
                <a:chOff x="0" y="4928760"/>
                <a:chExt cx="4356000" cy="961200"/>
              </a:xfrm>
            </p:grpSpPr>
            <p:sp>
              <p:nvSpPr>
                <p:cNvPr id="459" name="Rectangle 30"/>
                <p:cNvSpPr/>
                <p:nvPr/>
              </p:nvSpPr>
              <p:spPr>
                <a:xfrm>
                  <a:off x="0" y="4928760"/>
                  <a:ext cx="43560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 : στοιχείο φυσικών επιστημώ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1"/>
                <p:cNvSpPr/>
                <p:nvPr/>
              </p:nvSpPr>
              <p:spPr>
                <a:xfrm>
                  <a:off x="6480" y="4928760"/>
                  <a:ext cx="43164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2"/>
              <p:cNvGrpSpPr/>
              <p:nvPr/>
            </p:nvGrpSpPr>
            <p:grpSpPr>
              <a:xfrm>
                <a:off x="4285800" y="4928760"/>
                <a:ext cx="4857120" cy="961200"/>
                <a:chOff x="4285800" y="4928760"/>
                <a:chExt cx="4857120" cy="961200"/>
              </a:xfrm>
            </p:grpSpPr>
            <p:sp>
              <p:nvSpPr>
                <p:cNvPr id="462" name="Rectangle 33"/>
                <p:cNvSpPr/>
                <p:nvPr/>
              </p:nvSpPr>
              <p:spPr>
                <a:xfrm>
                  <a:off x="4285800" y="4928760"/>
                  <a:ext cx="485712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: άσκηση σε δεξιότητες (νοητικές και χειρωνακτικές) και στοιχείο φ.ε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4"/>
                <p:cNvSpPr/>
                <p:nvPr/>
              </p:nvSpPr>
              <p:spPr>
                <a:xfrm>
                  <a:off x="4321080" y="492876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5"/>
              <p:cNvGrpSpPr/>
              <p:nvPr/>
            </p:nvGrpSpPr>
            <p:grpSpPr>
              <a:xfrm>
                <a:off x="0" y="5890320"/>
                <a:ext cx="4321080" cy="961200"/>
                <a:chOff x="0" y="5890320"/>
                <a:chExt cx="4321080" cy="961200"/>
              </a:xfrm>
            </p:grpSpPr>
            <p:sp>
              <p:nvSpPr>
                <p:cNvPr id="465" name="Rectangle 36"/>
                <p:cNvSpPr/>
                <p:nvPr/>
              </p:nvSpPr>
              <p:spPr>
                <a:xfrm>
                  <a:off x="0" y="5890320"/>
                  <a:ext cx="42858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μαθητών ?    tabula r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7"/>
                <p:cNvSpPr/>
                <p:nvPr/>
              </p:nvSpPr>
              <p:spPr>
                <a:xfrm>
                  <a:off x="6480" y="5890320"/>
                  <a:ext cx="43146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38"/>
              <p:cNvGrpSpPr/>
              <p:nvPr/>
            </p:nvGrpSpPr>
            <p:grpSpPr>
              <a:xfrm>
                <a:off x="4321440" y="5890320"/>
                <a:ext cx="4821480" cy="961200"/>
                <a:chOff x="4321440" y="5890320"/>
                <a:chExt cx="4821480" cy="961200"/>
              </a:xfrm>
            </p:grpSpPr>
            <p:sp>
              <p:nvSpPr>
                <p:cNvPr id="468" name="Rectangle 39"/>
                <p:cNvSpPr/>
                <p:nvPr/>
              </p:nvSpPr>
              <p:spPr>
                <a:xfrm>
                  <a:off x="4356360" y="5890320"/>
                  <a:ext cx="478656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?        ναι, αλλά αλλάζουν με διδασκαλί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0"/>
                <p:cNvSpPr/>
                <p:nvPr/>
              </p:nvSpPr>
              <p:spPr>
                <a:xfrm>
                  <a:off x="4321440" y="589032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Rectangle 41"/>
            <p:cNvSpPr/>
            <p:nvPr/>
          </p:nvSpPr>
          <p:spPr>
            <a:xfrm>
              <a:off x="0" y="1752480"/>
              <a:ext cx="914364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12760" y="-79200"/>
            <a:ext cx="8718480" cy="16635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13840" y="1357200"/>
            <a:ext cx="42814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δ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εποικ/ση γνώση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αλλά και ενήμερος των ιδεών τ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ε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ύπαρξη διαισθητικών αντιλήψεων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1640" y="1356840"/>
            <a:ext cx="43434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δ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ανακάλυψη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ε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ότι «υπάρχει»)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285480"/>
            <a:ext cx="449568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 : στοιχείο Φυσικών  Επιστημών και </a:t>
            </a:r>
            <a:r>
              <a:rPr b="0" lang="el-GR" sz="28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διδασκαλ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μαθητών ?    αφετηρία διδασκαλίας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 και μεταγνώση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285480"/>
            <a:ext cx="449568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: στοιχείο Φ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. Ε.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και άσκηση σε δεξιότητες (νοητικές και χειρωνακτικές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 μαθητών ?  ναι, αλλά αλλάζουν με διδασκαλία (επιλογή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64576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06280" y="1197000"/>
          <a:ext cx="8686800" cy="5573520"/>
        </p:xfrm>
        <a:graphic>
          <a:graphicData uri="http://schemas.openxmlformats.org/drawingml/2006/table">
            <a:tbl>
              <a:tblPr/>
              <a:tblGrid>
                <a:gridCol w="2637000"/>
                <a:gridCol w="3154320"/>
                <a:gridCol w="2895480"/>
              </a:tblGrid>
              <a:tr h="67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κάλυψ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οικοδόμ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ερεύν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Χειρισμός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νοιολογικά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Και τα δύο </a:t>
                      </a:r>
                      <a:r>
                        <a:rPr b="0" lang="el-G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Αυθεντικότητ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Υποσύνολο Διερεύνηση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Τροποποιεί Ανακάλυψ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Εποικοδόμησ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Διευρύνε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ακάλυψ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Πειραματικές αναφορέ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άδειξη ιδεών μαθητ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Διάβασμ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Γράψιμ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το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5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1571400"/>
            <a:ext cx="8610480" cy="510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Οι αρχές αντίδρασης καθοδηγούν τις απαντήσεις του/της εκπαιδευτικού  στο/στη μαθητή / τρια. Αυτές λένε στον/στην εκπαιδευτικό πώς να βλέπει το/τη  μαθητή/ τρια και πώς να αντιδρά σε ότι αυτός/ή κάνει…Οι αρχές αντίδρασης παρέχουν στον/στην εκπαιδευτικό εμπειρικές μεθόδους με βάση τις οποίες «εναρμονίζονται» στους/στις  μαθητές/τριες και επιλέγουν κατάλληλες απαντήσεις σ’ αυτά που οι μαθητές/ τριες κάνουν»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135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28400" y="1600200"/>
            <a:ext cx="8258040" cy="502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ρά τους ρόλους των μαθητών/τριών και εκπαιδευτικών, τις σχέσεις των ρόλων και τις μορφές κανονισμών που προωθούνται στην τάξη. Για παράδειγμα, σε ένα μοντέλο ο/η εκπαιδευτικός μπορεί να διευκολύνει την ομαδική δραστηριότητα των μαθητών/τριών, σ’ ένα άλλο μοντέλο, ο/η εκπαιδευτικός μπορεί να είναι ο/η προσωπικός/ή σύμβουλος των μαθητών/τριών κ.λπ.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42328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σύστημα υποστήριξης περιγράφει τις ειδικότερες ανάγκες ενός μοντέλου, όπως τις ειδικότερες δεξιότητες που χρειάζεται να έχει ο/η εκπαιδευτικός για την εφαρμογή του μοντέλου ή τις ιδιαίτερες τεχνικές ανάγκες που ενδεχομένως απαιτούνται (π.χ. αρκετά διδακτικά υλικά). Για παράδειγμα, ο/η εκπαιδευτικός που διεκπεραιώνει ένα μοντέλο «μη κατευθυνόμενο», απαιτείται να είναι ιδιαίτερα υπομονετικός και υποστηρικτικός,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500040" y="139680"/>
            <a:ext cx="8302680" cy="1981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2047680"/>
            <a:ext cx="8229600" cy="452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φοράς της γνώση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mission of knowledge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overy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οικοδομητικ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structivist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ερεύνηση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quiry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8785440" cy="134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356760" y="1571760"/>
            <a:ext cx="8481960" cy="495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Θεωρία Μάθησης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Συμπεριφοριστική – Συσσωρευτική διαδικασία μεταβίβασης τη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αθητικός Δέκτης, δεν έχει Αρχικές Ιδέ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Κάτοχος, Φορέας και αυτός που Εγκυροποιεί  τη γνώση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Φάσεις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ξοικείωσης και Προβληματισμού, Εισαγωγής, Εφαρμογής και Αξιολόγησης τ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νώση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ληροφοριακό ή και οργανωτικό επίπεδο – Μνήμης ή \και Επεξηγηματικής Κατανόη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είραμα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Επίδειξης - Επιβεβαίωσ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8720" cy="1122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28400" y="1699920"/>
            <a:ext cx="8358120" cy="466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πό τη απλή και «βαρετή» διάλεξη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Ως την εξαιρετική επίδειξη (πειραμάτων, εικόνων, ταινιών, τρισδιάστατων αντικειμένων. ……. ) ή και την αφήγηση σε συνδυασμό με μυθοποίηση για τις μικρές ηλικίε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ε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ετάμ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τίποτε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4T20:18:07Z</dcterms:modified>
  <cp:revision>168</cp:revision>
  <dc:subject/>
  <dc:title>Κρίσιμα Ερωτήματα</dc:title>
</cp:coreProperties>
</file>